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16DA-4BEA-4FF2-BBE8-709EA3346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DEC6-B6BF-4189-A3E3-9F23D12CA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6C79-ACC9-43BE-9010-74DE7B86D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4950-EF7A-4DA4-94B1-C3D77279A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F4BF-7773-4E42-8842-C0F3342E5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8FEE-697F-45D6-9273-D75B31CF8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4663-6BFB-4678-B00D-8FDBACA25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FF7C-102C-49D8-9D1D-4B9BB3C7D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714D-41F1-4D15-A89E-9225FA1F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E5C0-76AE-4F96-B59F-8CFBD9CBF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6604-B736-4416-8891-694F3C4F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8D52-684A-4859-B100-F98B03412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6D2E-0330-4F15-A4B2-22E585AD22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DC1-3AFE-4716-A0E0-7129D056C8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nother p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e pair takes the role of the student.  Role play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other pair takes the role of the teacher.  Practice “responding to students in the momen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verse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0CB3-C57C-4571-BB55-DB3165C831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CB88-7790-4B89-AD18-9D52B8236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ink about the Role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hout Out …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ds and/or phrases you used for feedback that you felt we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7542-0604-48A1-B8D4-87DFE520D9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C4C-2722-47A5-9006-C95A108F2A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comfort level, learning and next steps related to giving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FBB-C824-4E5F-9500-CF83F853F8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38C-B216-44FC-8D1D-8FC7AB41F1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s you enter….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will be focussing on a course in the secondary math curriculum for our first afternoo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ve to the corner that represents the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grade level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you would like to work on (see posters in the four corners of the ro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ait there until further instructio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connections between key components of algebraic thinking and proportional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key components of algebraic thinking and proportional reasoning in the curriculum expectations for a specific course (participant to cho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dentify key proportional reasoning concepts in a sample grade 9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sponding to students “in the moment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AC79-254B-4856-A2BD-BCDFB7FF5A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38D-309F-4516-934D-685AECEECA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sid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sticker dot graph of courses our group created on the first day showing what we have taught or will be teaching thi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e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‘course’ groups of 3 or 4 participants to look at components of algebraic thinking and proportional reasoning in the curriculum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F6C2-A8EA-429F-92F8-8BE3C9171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E26-7D4B-4F34-9F34-ECABC81FF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half of a sheet of chart paper, create a Venn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the Venn Diagram to illustrate similarities and differences between the key mathematical ideas related to Proportional Reasoning and Algebraic Thinking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 general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not related to your specific cou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hink about: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formation from our plenary sessions and the Big Ideas in the CAMPPP Program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609-35D1-41EF-AAC4-DD2DCFAFF7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415-0E06-4A94-9AFA-0C7A8BF5C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hange Venn Diagrams with a neighbour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really like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post-it note to provide feedback: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“We are wondering….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turn Venn Diagrams to original tabl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02A-C2A0-448E-A7EB-D4CC6E374F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67C-A24C-4523-8DD7-BA8E9AE84B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cus on the course you chose to work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p out the expectations related to Proportional Reasoning and Algebraic Thinking on a Venn Diagram – look for similarities/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t your Venn Diagram on the side table when your group is done. Will use again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source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Hard copies of curriculum documents are available as well as on-lin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3AB9-B317-4EBB-B2F8-367B7E8710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3AFA-5EE9-43D0-AA82-DD19FE3C07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029200" y="990720"/>
            <a:ext cx="34290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800600"/>
            <a:ext cx="3200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ade 9 Math Problem – Keepin’ T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student council collects aluminium pop tabs to raise money to purchase a wheel chair. A company buys the pop tabs for $0.88 per kil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important proportional reasoning concepts do you see in this problem from a grade 9 content perspect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how your work.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9640" indent="-59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DF27-523E-4916-8254-0DE5763E3D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637-E761-4543-AC08-448952938E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cc0099"/>
                </a:solidFill>
                <a:latin typeface="Arial"/>
              </a:rPr>
              <a:t>Solve with a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43240" y="1523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1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aft a ‘student solution’.  Think about possible student  approaches/misconceptions as you create your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lan out how you will ‘act it out’….you will be role playing the solution in a few minutes – take this time to jot down how you will ‘play student’ when you have to role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BF88-0CAA-48E8-BA86-3EADD4D0DA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FB58-FF7E-47E6-A943-4F38D1C08E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990720"/>
            <a:ext cx="266688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With your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17T21:36:28Z</dcterms:modified>
  <cp:revision>27</cp:revision>
  <dc:subject/>
  <dc:title>&lt;Title&gt;</dc:title>
</cp:coreProperties>
</file>